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6038-92E5-4BC7-B9FA-01A28E362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E291-A457-4581-A595-7FEA76787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58C1-2197-4840-8E62-CE543A535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6DFB9-D443-46F1-8B23-37A3C366C3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A834C-02F8-4C9C-A697-6EF181A4D0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8C99-68D8-4CB7-9E25-94FE19F72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625E-5350-4276-A2E2-18551199D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8F45-E16C-469D-AC9A-97BC6A6C4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24F2-B466-4B0A-ABEA-1BBE22169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0302-BD84-4AF1-B28B-40706B3E6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C352-225C-4219-A02F-F342DDD99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3AAB-F13C-4467-AFC4-1EC1425E2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096F-DA85-4518-9645-7B531AF80B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487692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666C-70D9-4D64-9D56-B4C79BF8A8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47242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76000"/>
          </a:bodyPr>
          <a:p>
            <a:pPr marL="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Kindergarten to Grad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C725-8ACC-4D95-AA5E-5FCF8EB198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533520" y="762120"/>
            <a:ext cx="64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ad the article Fair Shares, Matey, or Walk the Plank! (NCTM, April 2012).  As you are reading conside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819520" y="2846520"/>
            <a:ext cx="556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esting facts I lear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ig ideas I will think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g I would like to 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unchtime Lear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48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ble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as many different ways to show one half of a geo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5084-DEDE-443F-815F-FC44F870A9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400800" y="4038480"/>
          <a:ext cx="2362320" cy="2233800"/>
        </p:xfrm>
        <a:graphic>
          <a:graphicData uri="http://schemas.openxmlformats.org/drawingml/2006/table">
            <a:tbl>
              <a:tblPr/>
              <a:tblGrid>
                <a:gridCol w="236520"/>
                <a:gridCol w="236520"/>
                <a:gridCol w="235080"/>
                <a:gridCol w="236520"/>
                <a:gridCol w="236520"/>
                <a:gridCol w="236520"/>
                <a:gridCol w="236520"/>
                <a:gridCol w="235080"/>
                <a:gridCol w="236520"/>
                <a:gridCol w="236520"/>
              </a:tblGrid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429000" y="4343400"/>
          <a:ext cx="2362320" cy="2233440"/>
        </p:xfrm>
        <a:graphic>
          <a:graphicData uri="http://schemas.openxmlformats.org/drawingml/2006/table">
            <a:tbl>
              <a:tblPr/>
              <a:tblGrid>
                <a:gridCol w="236520"/>
                <a:gridCol w="236520"/>
                <a:gridCol w="235080"/>
                <a:gridCol w="236520"/>
                <a:gridCol w="236520"/>
                <a:gridCol w="236520"/>
                <a:gridCol w="236520"/>
                <a:gridCol w="235080"/>
                <a:gridCol w="236520"/>
                <a:gridCol w="236520"/>
              </a:tblGrid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172200" y="228600"/>
          <a:ext cx="2362320" cy="2233440"/>
        </p:xfrm>
        <a:graphic>
          <a:graphicData uri="http://schemas.openxmlformats.org/drawingml/2006/table">
            <a:tbl>
              <a:tblPr/>
              <a:tblGrid>
                <a:gridCol w="236520"/>
                <a:gridCol w="236520"/>
                <a:gridCol w="235080"/>
                <a:gridCol w="236520"/>
                <a:gridCol w="236520"/>
                <a:gridCol w="236520"/>
                <a:gridCol w="236520"/>
                <a:gridCol w="235080"/>
                <a:gridCol w="236520"/>
                <a:gridCol w="236520"/>
              </a:tblGrid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rticipants w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derstand the use of number line activities to from whole number to fraction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ognize how the number line is different from other fractional representations and its 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derstand the importance of the number line and how understanding its 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ognize the advantages that can be gained by using the number 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onsolidation 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n the back of your number lin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 What are some pluses of using the number line when dealing with fr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. What mathematical concepts can be reinforced by using the number l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8377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flect on the Quot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Learning is a treasure that will follow its owner everywher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inds On!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Human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3733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5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3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8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0F23-34A8-4C7A-9ACB-B572B21D4B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9461-BE64-4089-B19C-379F7A5E14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1295280" y="2514600"/>
            <a:ext cx="6782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2193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76960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b5ca9"/>
                </a:solidFill>
                <a:latin typeface="Arial"/>
              </a:rPr>
              <a:t>Minds On!</a:t>
            </a:r>
            <a:br>
              <a:rPr sz="3200"/>
            </a:br>
            <a:r>
              <a:rPr b="0" lang="en-CA" sz="3200" spc="-1" strike="noStrike">
                <a:solidFill>
                  <a:srgbClr val="2b5ca9"/>
                </a:solidFill>
                <a:latin typeface="Arial"/>
              </a:rPr>
              <a:t>Human Number Line Transformed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880" y="3048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5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3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8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your thinking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C5F5-4574-435F-B77B-C092D52633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14F5-4800-45BA-B45F-71710D5EB0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990720" y="1905120"/>
            <a:ext cx="6781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8380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7467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inds On!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Human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3733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ystery person stands somewhere and the rest figure out what fraction he/she migh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BEE3-D60B-4AEA-96C7-29D0F83501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70EB-222F-4552-82A0-64F9F0BD7E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1295280" y="2514600"/>
            <a:ext cx="6782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2193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6960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inds On!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Human Number Line – again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3733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one half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one fourth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three fourths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40E8-B670-4CB9-A66B-02AF4256D2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42EF-4D68-4804-9452-9E256A84BE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1295280" y="2514600"/>
            <a:ext cx="6782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2193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76960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Action!</a:t>
            </a:r>
            <a:br>
              <a:rPr sz="4000"/>
            </a:b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Adding Tape Paper Fold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8960" y="22856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Pair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can you fold the tape to get hal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can you fold the tape to get fourt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bel your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scuss with your partner, "Why are the fractions different on your various sized adding tape pieces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838080" y="1295280"/>
            <a:ext cx="73915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8380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80010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dding Tape Paper Fold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Pairs with a new adding tap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can you fold the tape to get thir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ould happen if you folded the tape in half ag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bel your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scuss with your partner, "Why are the fractions different on your various sized adding tape pieces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838080" y="914400"/>
            <a:ext cx="73915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85800" y="1523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8001000" y="1600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Body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th your partn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where these fractions would be on your bodies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one half, one fourth, two th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rk those spots with sti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adding tape to check est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1A79-B6A2-4A85-AFF3-7965A9B327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Body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294920"/>
            <a:ext cx="69343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th your partn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cide what fraction would be where your kne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cide what fraction would be where your ey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you and your partner have the same fractions?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adding tape to che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E478-CC48-4446-8EC1-21090ABC2C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cchaput</cp:lastModifiedBy>
  <dcterms:modified xsi:type="dcterms:W3CDTF">2012-08-23T19:17:24Z</dcterms:modified>
  <cp:revision>21</cp:revision>
  <dc:subject/>
  <dc:title>&lt;Title&gt;</dc:title>
</cp:coreProperties>
</file>